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176-6A40-4CBB-992B-98597E98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81C-5BD1-4C01-9369-53F77579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E3D-085F-4199-97C5-06999F27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BA8-0281-476D-B2FD-5EEE9C41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236-4458-4E5B-B78D-44BA3221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970-327D-4D45-A476-469754E3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7DF-821B-4088-9DB4-A61A4A9D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71D-34FA-43DC-8E6E-C9243635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7D5-BE9A-454A-AAC1-5F2863FD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F0E-7583-45B3-B032-AC2F3A1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034-B616-486B-96BE-30BE19AD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4EE-30A8-4523-93F2-3C41AB8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0C5C-E3C0-46D4-A707-AE321A5088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66"/>
                </a:solidFill>
                <a:latin typeface="Times New Roman"/>
              </a:rPr>
              <a:t>関数型プログラミング（２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66"/>
                </a:solidFill>
                <a:latin typeface="Times New Roman"/>
              </a:rPr>
              <a:t>金子敬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３　多重定義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多重定義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overlo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8800" y="245736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==) :: Int -&gt; Int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3 =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==) :: Bool -&gt;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lse =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23840" y="3940200"/>
            <a:ext cx="577800" cy="119160"/>
            <a:chOff x="1023840" y="3940200"/>
            <a:chExt cx="577800" cy="119160"/>
          </a:xfrm>
        </p:grpSpPr>
        <p:sp>
          <p:nvSpPr>
            <p:cNvPr id="107" name=""/>
            <p:cNvSpPr/>
            <p:nvPr/>
          </p:nvSpPr>
          <p:spPr>
            <a:xfrm>
              <a:off x="1023840" y="3940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478520" y="40042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17720" y="6033960"/>
            <a:ext cx="577800" cy="119160"/>
            <a:chOff x="1017720" y="6033960"/>
            <a:chExt cx="577800" cy="119160"/>
          </a:xfrm>
        </p:grpSpPr>
        <p:sp>
          <p:nvSpPr>
            <p:cNvPr id="110" name=""/>
            <p:cNvSpPr/>
            <p:nvPr/>
          </p:nvSpPr>
          <p:spPr>
            <a:xfrm>
              <a:off x="1017720" y="603396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472400" y="609804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846600" y="3178080"/>
            <a:ext cx="4789440" cy="133524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(==) :: t -&gt; t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４　ガード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8800" y="245736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 ::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&gt;= y     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:: Int -&gt;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&gt;= y &amp;&amp; x &gt;= z   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y &gt;= z             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       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776240" y="1278000"/>
            <a:ext cx="7367760" cy="5448240"/>
            <a:chOff x="1776240" y="1278000"/>
            <a:chExt cx="7367760" cy="5448240"/>
          </a:xfrm>
        </p:grpSpPr>
        <p:sp>
          <p:nvSpPr>
            <p:cNvPr id="117" name=""/>
            <p:cNvSpPr/>
            <p:nvPr/>
          </p:nvSpPr>
          <p:spPr>
            <a:xfrm>
              <a:off x="1785960" y="3367080"/>
              <a:ext cx="2103480" cy="8859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76240" y="5533920"/>
              <a:ext cx="3570480" cy="11923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117" idx="3"/>
              <a:endCxn id="120" idx="1"/>
            </p:cNvCxnSpPr>
            <p:nvPr/>
          </p:nvCxnSpPr>
          <p:spPr>
            <a:xfrm flipV="1">
              <a:off x="3908160" y="2604240"/>
              <a:ext cx="2400840" cy="1205640"/>
            </a:xfrm>
            <a:prstGeom prst="straightConnector1">
              <a:avLst/>
            </a:prstGeom>
            <a:ln w="38160">
              <a:solidFill>
                <a:srgbClr val="ff3399"/>
              </a:solidFill>
              <a:miter/>
              <a:headEnd len="med" type="triangle" w="med"/>
            </a:ln>
          </p:spPr>
        </p:cxnSp>
        <p:cxnSp>
          <p:nvCxnSpPr>
            <p:cNvPr id="121" name=""/>
            <p:cNvCxnSpPr>
              <a:stCxn id="118" idx="3"/>
              <a:endCxn id="120" idx="1"/>
            </p:cNvCxnSpPr>
            <p:nvPr/>
          </p:nvCxnSpPr>
          <p:spPr>
            <a:xfrm flipV="1">
              <a:off x="5365440" y="2604600"/>
              <a:ext cx="943560" cy="3526560"/>
            </a:xfrm>
            <a:prstGeom prst="straightConnector1">
              <a:avLst/>
            </a:prstGeom>
            <a:ln w="38160">
              <a:solidFill>
                <a:srgbClr val="ff3399"/>
              </a:solidFill>
              <a:miter/>
              <a:headEnd len="med" type="triangle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6327720" y="1278000"/>
              <a:ext cx="2816280" cy="265428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ガード部を，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から順に評価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て，最初に結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が</a:t>
              </a:r>
              <a:r>
                <a:rPr b="1" lang="en-US" sz="2800" spc="-1" strike="noStrike">
                  <a:solidFill>
                    <a:srgbClr val="ff3399"/>
                  </a:solidFill>
                  <a:latin typeface="Courier New"/>
                </a:rPr>
                <a:t>True</a:t>
              </a: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となる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のの右辺を評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して，値とする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４　ガード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一般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8800" y="347184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ame x1 x2 ... x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g1         = 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g2         = 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5120" y="2354400"/>
            <a:ext cx="2436840" cy="1263600"/>
            <a:chOff x="465120" y="2354400"/>
            <a:chExt cx="2436840" cy="1263600"/>
          </a:xfrm>
        </p:grpSpPr>
        <p:sp>
          <p:nvSpPr>
            <p:cNvPr id="126" name=""/>
            <p:cNvSpPr/>
            <p:nvPr/>
          </p:nvSpPr>
          <p:spPr>
            <a:xfrm>
              <a:off x="465120" y="2354400"/>
              <a:ext cx="24368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定義中の関数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353600" y="2967120"/>
              <a:ext cx="335160" cy="65088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14520" y="2359080"/>
            <a:ext cx="3376800" cy="1216080"/>
            <a:chOff x="2414520" y="2359080"/>
            <a:chExt cx="3376800" cy="1216080"/>
          </a:xfrm>
        </p:grpSpPr>
        <p:sp>
          <p:nvSpPr>
            <p:cNvPr id="129" name=""/>
            <p:cNvSpPr/>
            <p:nvPr/>
          </p:nvSpPr>
          <p:spPr>
            <a:xfrm>
              <a:off x="3354480" y="2359080"/>
              <a:ext cx="24368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仮引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414520" y="2981160"/>
              <a:ext cx="1959120" cy="55116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208320" y="2995560"/>
              <a:ext cx="1365120" cy="53676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573080" y="2981160"/>
              <a:ext cx="179640" cy="59400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274640"/>
            <a:ext cx="2436840" cy="2157840"/>
            <a:chOff x="457200" y="4274640"/>
            <a:chExt cx="2436840" cy="2157840"/>
          </a:xfrm>
        </p:grpSpPr>
        <p:sp>
          <p:nvSpPr>
            <p:cNvPr id="134" name=""/>
            <p:cNvSpPr/>
            <p:nvPr/>
          </p:nvSpPr>
          <p:spPr>
            <a:xfrm>
              <a:off x="457200" y="5749920"/>
              <a:ext cx="24368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ガード</a:t>
              </a: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15960" y="4779720"/>
              <a:ext cx="317520" cy="109044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476360" y="4274640"/>
              <a:ext cx="361800" cy="158436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114520" y="4141800"/>
            <a:ext cx="3683520" cy="2495520"/>
            <a:chOff x="5114520" y="4141800"/>
            <a:chExt cx="3683520" cy="2495520"/>
          </a:xfrm>
        </p:grpSpPr>
        <p:sp>
          <p:nvSpPr>
            <p:cNvPr id="138" name=""/>
            <p:cNvSpPr/>
            <p:nvPr/>
          </p:nvSpPr>
          <p:spPr>
            <a:xfrm>
              <a:off x="5345280" y="5954760"/>
              <a:ext cx="3452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…</a:t>
              </a: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およびガード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対応する種々の結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122800" y="4673520"/>
              <a:ext cx="1393920" cy="114624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114520" y="4141800"/>
              <a:ext cx="1406520" cy="171432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４　ガード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行ごとの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8800" y="245736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Three 6 (4+3)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?? 6&gt;=(4+3) &amp;&amp; 6&gt;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??    6&gt;=7 &amp;&amp; 6&gt;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??    False &amp;&amp;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??   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?? 7&gt;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??   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1320" y="3517920"/>
            <a:ext cx="577800" cy="119160"/>
            <a:chOff x="2011320" y="3517920"/>
            <a:chExt cx="577800" cy="119160"/>
          </a:xfrm>
        </p:grpSpPr>
        <p:sp>
          <p:nvSpPr>
            <p:cNvPr id="145" name=""/>
            <p:cNvSpPr/>
            <p:nvPr/>
          </p:nvSpPr>
          <p:spPr>
            <a:xfrm>
              <a:off x="2011320" y="351792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466000" y="358200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17720" y="5662440"/>
            <a:ext cx="577800" cy="119160"/>
            <a:chOff x="1017720" y="5662440"/>
            <a:chExt cx="577800" cy="119160"/>
          </a:xfrm>
        </p:grpSpPr>
        <p:sp>
          <p:nvSpPr>
            <p:cNvPr id="148" name=""/>
            <p:cNvSpPr/>
            <p:nvPr/>
          </p:nvSpPr>
          <p:spPr>
            <a:xfrm>
              <a:off x="1017720" y="56624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472400" y="57265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04840" y="3911760"/>
            <a:ext cx="577800" cy="118800"/>
            <a:chOff x="2004840" y="3911760"/>
            <a:chExt cx="577800" cy="118800"/>
          </a:xfrm>
        </p:grpSpPr>
        <p:sp>
          <p:nvSpPr>
            <p:cNvPr id="151" name=""/>
            <p:cNvSpPr/>
            <p:nvPr/>
          </p:nvSpPr>
          <p:spPr>
            <a:xfrm>
              <a:off x="2004840" y="391176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459520" y="39754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98720" y="4334040"/>
            <a:ext cx="577800" cy="118800"/>
            <a:chOff x="1998720" y="4334040"/>
            <a:chExt cx="577800" cy="118800"/>
          </a:xfrm>
        </p:grpSpPr>
        <p:sp>
          <p:nvSpPr>
            <p:cNvPr id="154" name=""/>
            <p:cNvSpPr/>
            <p:nvPr/>
          </p:nvSpPr>
          <p:spPr>
            <a:xfrm>
              <a:off x="1998720" y="433404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453400" y="439776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000160" y="5178600"/>
            <a:ext cx="577800" cy="118800"/>
            <a:chOff x="2000160" y="5178600"/>
            <a:chExt cx="577800" cy="118800"/>
          </a:xfrm>
        </p:grpSpPr>
        <p:sp>
          <p:nvSpPr>
            <p:cNvPr id="157" name=""/>
            <p:cNvSpPr/>
            <p:nvPr/>
          </p:nvSpPr>
          <p:spPr>
            <a:xfrm>
              <a:off x="2000160" y="5178600"/>
              <a:ext cx="461880" cy="11880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454840" y="52423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４　ガード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条件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8800" y="245736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f condition then m else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f x&gt;=y then x else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 ::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if x&gt;=y then x else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５　文字：</a:t>
            </a:r>
            <a:r>
              <a:rPr b="1" lang="en-US" sz="4400" spc="-1" strike="noStrike">
                <a:solidFill>
                  <a:srgbClr val="ffff66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0"/>
          </a:bodyPr>
          <a:p>
            <a:pPr marL="34200" indent="-342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文字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character)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と特殊文字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special cha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" indent="-28440">
              <a:lnSpc>
                <a:spcPct val="120000"/>
              </a:lnSpc>
              <a:spcBef>
                <a:spcPts val="700"/>
              </a:spcBef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’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’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’3’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" indent="-28440">
              <a:lnSpc>
                <a:spcPct val="120000"/>
              </a:lnSpc>
              <a:spcBef>
                <a:spcPts val="700"/>
              </a:spcBef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タブ：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’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\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" indent="-28440">
              <a:lnSpc>
                <a:spcPct val="120000"/>
              </a:lnSpc>
              <a:spcBef>
                <a:spcPts val="700"/>
              </a:spcBef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改行：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’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\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" indent="-28440">
              <a:lnSpc>
                <a:spcPct val="120000"/>
              </a:lnSpc>
              <a:spcBef>
                <a:spcPts val="700"/>
              </a:spcBef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バックスラッシュ：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’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\\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" indent="-28440">
              <a:lnSpc>
                <a:spcPct val="120000"/>
              </a:lnSpc>
              <a:spcBef>
                <a:spcPts val="700"/>
              </a:spcBef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引用符：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’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\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" indent="-28440">
              <a:lnSpc>
                <a:spcPct val="120000"/>
              </a:lnSpc>
              <a:spcBef>
                <a:spcPts val="700"/>
              </a:spcBef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二重引用符：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’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\”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" indent="-284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５　文字：</a:t>
            </a:r>
            <a:r>
              <a:rPr b="1" lang="en-US" sz="4400" spc="-1" strike="noStrike">
                <a:solidFill>
                  <a:srgbClr val="ffff66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文字と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SCII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ord :: Char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hr :: Int -&gt; 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offset :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offset = ord ’A’ – ord ’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oUpper :: Char -&gt; 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oUpper ch = chr (ord ch + off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f.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isDi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６　浮動小数点数：</a:t>
            </a:r>
            <a:r>
              <a:rPr b="1" lang="en-US" sz="4400" spc="-1" strike="noStrike">
                <a:solidFill>
                  <a:srgbClr val="ffff66"/>
                </a:solidFill>
                <a:latin typeface="Courier New"/>
              </a:rPr>
              <a:t>Flo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表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.31426, -23.12, 567.347, 452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31.61e7, 231.61e-2, -3.412e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６　浮動小数点数：</a:t>
            </a:r>
            <a:r>
              <a:rPr b="1" lang="en-US" sz="4400" spc="-1" strike="noStrike">
                <a:solidFill>
                  <a:srgbClr val="ffff66"/>
                </a:solidFill>
                <a:latin typeface="Courier New"/>
              </a:rPr>
              <a:t>Flo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浮動小数演算と関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+ - *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加算，減算，乗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/    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小数除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^    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冪乗（自然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*   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冪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= /= &lt; &gt; &lt;= &gt;=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等号，比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bs  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絶対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cos asin atan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余弦，正弦，正接の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eiling floor round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丸め，切捨て，切上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os sin tan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余弦，正弦，正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６　浮動小数点数：</a:t>
            </a:r>
            <a:r>
              <a:rPr b="1" lang="en-US" sz="4400" spc="-1" strike="noStrike">
                <a:solidFill>
                  <a:srgbClr val="ffff66"/>
                </a:solidFill>
                <a:latin typeface="Courier New"/>
              </a:rPr>
              <a:t>Flo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浮動小数演算と関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p  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</a:t>
            </a: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romInt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t -&gt;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og  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常用対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logBase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対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gate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符号反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i   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円周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ignum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符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qrt 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平方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1982880"/>
            <a:ext cx="8555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単純な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プログラムの書き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へのロードの仕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モジュールの機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urier New"/>
              </a:rPr>
              <a:t>Pictures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による事例研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文法誤り，型誤り，プログラム誤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レイアウ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x = x*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17440" y="2700360"/>
            <a:ext cx="7053480" cy="812880"/>
            <a:chOff x="1117440" y="2700360"/>
            <a:chExt cx="7053480" cy="812880"/>
          </a:xfrm>
        </p:grpSpPr>
        <p:sp>
          <p:nvSpPr>
            <p:cNvPr id="180" name=""/>
            <p:cNvSpPr/>
            <p:nvPr/>
          </p:nvSpPr>
          <p:spPr>
            <a:xfrm flipV="1">
              <a:off x="1131840" y="2700360"/>
              <a:ext cx="0" cy="8128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17440" y="2700360"/>
              <a:ext cx="705348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224000" y="2735280"/>
            <a:ext cx="3008160" cy="338040"/>
            <a:chOff x="1224000" y="2735280"/>
            <a:chExt cx="3008160" cy="338040"/>
          </a:xfrm>
        </p:grpSpPr>
        <p:sp>
          <p:nvSpPr>
            <p:cNvPr id="183" name=""/>
            <p:cNvSpPr/>
            <p:nvPr/>
          </p:nvSpPr>
          <p:spPr>
            <a:xfrm>
              <a:off x="1249200" y="2735280"/>
              <a:ext cx="298296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24000" y="2984400"/>
              <a:ext cx="88920" cy="88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25440" y="2752560"/>
              <a:ext cx="88920" cy="88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レイアウ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x = x*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131840" y="2700360"/>
            <a:ext cx="0" cy="812880"/>
          </a:xfrm>
          <a:prstGeom prst="line">
            <a:avLst/>
          </a:prstGeom>
          <a:ln w="38160">
            <a:solidFill>
              <a:srgbClr val="ff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17440" y="2700360"/>
            <a:ext cx="70534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63680" y="3164040"/>
            <a:ext cx="2773440" cy="333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130400" y="2703600"/>
            <a:ext cx="1440" cy="11016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98920" y="3817800"/>
            <a:ext cx="2454120" cy="49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00053 0.15185 E">
                                      <p:cBhvr>
                                        <p:cTn id="7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レイアウ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stery x = x*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xt x =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31840" y="2700360"/>
            <a:ext cx="7039080" cy="16254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25440" y="4392720"/>
            <a:ext cx="3003840" cy="338040"/>
            <a:chOff x="1225440" y="4392720"/>
            <a:chExt cx="3003840" cy="338040"/>
          </a:xfrm>
        </p:grpSpPr>
        <p:sp>
          <p:nvSpPr>
            <p:cNvPr id="199" name=""/>
            <p:cNvSpPr/>
            <p:nvPr/>
          </p:nvSpPr>
          <p:spPr>
            <a:xfrm>
              <a:off x="1241280" y="4392720"/>
              <a:ext cx="298800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25440" y="4641840"/>
              <a:ext cx="88920" cy="88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7240" y="4410000"/>
              <a:ext cx="88920" cy="88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117440" y="4371840"/>
            <a:ext cx="7053480" cy="812880"/>
            <a:chOff x="1117440" y="4371840"/>
            <a:chExt cx="7053480" cy="812880"/>
          </a:xfrm>
        </p:grpSpPr>
        <p:sp>
          <p:nvSpPr>
            <p:cNvPr id="203" name=""/>
            <p:cNvSpPr/>
            <p:nvPr/>
          </p:nvSpPr>
          <p:spPr>
            <a:xfrm flipV="1">
              <a:off x="1131840" y="4371840"/>
              <a:ext cx="0" cy="8128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7440" y="4371840"/>
              <a:ext cx="705348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明示的な定義の終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nswer = 42; facSix = 7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 n = 2 * n; triple n = 3 *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推奨レイアウ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un 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... 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g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= 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g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= 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  = 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あるい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g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= 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r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推奨レイアウ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un 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... v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a long guard which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o over a number of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very long expression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goes over a number of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g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= e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Courier New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の名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識別子：英字で始まり，英字，数字，下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_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」，１重引用符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’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」が続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大文字で始まる識別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　型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...)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，構成子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...)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，モジュール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　型クラス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小文字で始まる識別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　変数，型変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予約語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reserved 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ase class data default de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 else if import in infix infi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fixr instance let module new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of then type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s qualified h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演算子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opera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すべて中置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inf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*3+4 = (+) ((*) 2 3)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関数はすべて前置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pref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iv 14 3 = 14 `div`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演算子の結合性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associativ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 +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(a + b) + c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左結合的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left associ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a + (b + c) 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：右結合的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right associ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275436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275256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6040" y="3594240"/>
            <a:ext cx="204840" cy="20448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71920" y="360684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95360" y="444960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60600" y="444816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　基本型と定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３．１　ブール値：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３．２　整数：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３．３　多重定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３．４　ガ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３．５　文字：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３．６　浮動小数点数：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演算子の束縛能力，結合度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connectiv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 + b *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(a + b) * c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+ &gt;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a + (b * c) </a:t>
            </a:r>
            <a:r>
              <a:rPr b="0" lang="ja-JP" sz="28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+ &lt;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275436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01840" y="2714760"/>
            <a:ext cx="204840" cy="20448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6040" y="3594240"/>
            <a:ext cx="204840" cy="20448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5160" y="356544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95360" y="444960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63840" y="441972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19680" y="361620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6840" y="354816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13200" y="4452840"/>
            <a:ext cx="20484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70720" y="4398840"/>
            <a:ext cx="204480" cy="20484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３．７　文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ユーザ定義演算子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user defined opera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28800" y="2600280"/>
            <a:ext cx="721332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! # $ % &amp; * + .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&lt; = &gt; ? \ ^ | : - 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（ただし</a:t>
            </a: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: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から始めてはいけな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&amp;&amp;&amp;) :: Int -&gt;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x &amp;&amp;&amp;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x &gt; y    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 otherwise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基本型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66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66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66"/>
                </a:solidFill>
                <a:latin typeface="Courier New"/>
              </a:rPr>
              <a:t>Char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66"/>
                </a:solidFill>
                <a:latin typeface="Courier New"/>
              </a:rPr>
              <a:t>Bool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基本型の上の組込み関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場合分けの定義（ガー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レイアウト規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ツールボック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１　ブール値：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Boo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ブール値とブール演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rue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真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&amp;&amp;  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論理積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logical 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lse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偽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||  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論理和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logical 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       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ot 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論理否定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logical ne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4640" y="4132440"/>
          <a:ext cx="7772400" cy="2619360"/>
        </p:xfrm>
        <a:graphic>
          <a:graphicData uri="http://schemas.openxmlformats.org/drawingml/2006/table">
            <a:tbl>
              <a:tblPr/>
              <a:tblGrid>
                <a:gridCol w="835200"/>
                <a:gridCol w="885600"/>
                <a:gridCol w="1611360"/>
                <a:gridCol w="1420920"/>
                <a:gridCol w="581040"/>
                <a:gridCol w="871560"/>
                <a:gridCol w="1566720"/>
              </a:tblGrid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2800" spc="-1" strike="noStrike" baseline="-25000">
                          <a:solidFill>
                            <a:srgbClr val="ffff66"/>
                          </a:solidFill>
                          <a:latin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2800" spc="-1" strike="noStrike" baseline="-25000">
                          <a:solidFill>
                            <a:srgbClr val="ffff6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>
                      <a:noFill/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2800" spc="-1" strike="noStrike" baseline="-25000">
                          <a:solidFill>
                            <a:srgbClr val="ffff66"/>
                          </a:solidFill>
                          <a:latin typeface="Courier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&amp;&amp;t</a:t>
                      </a:r>
                      <a:r>
                        <a:rPr b="1" lang="en-US" sz="2800" spc="-1" strike="noStrike" baseline="-25000">
                          <a:solidFill>
                            <a:srgbClr val="ffff6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2800" spc="-1" strike="noStrike" baseline="-25000">
                          <a:solidFill>
                            <a:srgbClr val="ffff66"/>
                          </a:solidFill>
                          <a:latin typeface="Courier New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||t</a:t>
                      </a:r>
                      <a:r>
                        <a:rPr b="1" lang="en-US" sz="2800" spc="-1" strike="noStrike" baseline="-25000">
                          <a:solidFill>
                            <a:srgbClr val="ffff6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2800" spc="-1" strike="noStrike" baseline="-25000">
                          <a:solidFill>
                            <a:srgbClr val="ffff66"/>
                          </a:solidFill>
                          <a:latin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>
                      <a:noFill/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not t</a:t>
                      </a:r>
                      <a:r>
                        <a:rPr b="1" lang="en-US" sz="2800" spc="-1" strike="noStrike" baseline="-25000">
                          <a:solidFill>
                            <a:srgbClr val="ffff66"/>
                          </a:solidFill>
                          <a:latin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3399"/>
                          </a:solidFill>
                          <a:latin typeface="Courier New"/>
                        </a:rPr>
                        <a:t>真理値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(Truth Tabl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38720" y="5732640"/>
            <a:ext cx="2265480" cy="1125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１　ブール値：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Boo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排他的論理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Or :: Bool -&gt;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Or x y = (x || y) &amp;&amp; not (x &amp;&amp;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41720" y="4151160"/>
            <a:ext cx="711000" cy="7113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38480" y="5238720"/>
            <a:ext cx="711360" cy="7113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amp;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1360" y="5238720"/>
            <a:ext cx="711360" cy="7113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2000" y="4697280"/>
            <a:ext cx="711000" cy="7113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amp;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19360" y="4366800"/>
            <a:ext cx="1419120" cy="1055880"/>
            <a:chOff x="1719360" y="4366800"/>
            <a:chExt cx="1419120" cy="1055880"/>
          </a:xfrm>
        </p:grpSpPr>
        <p:sp>
          <p:nvSpPr>
            <p:cNvPr id="60" name=""/>
            <p:cNvSpPr/>
            <p:nvPr/>
          </p:nvSpPr>
          <p:spPr>
            <a:xfrm flipV="1">
              <a:off x="1719360" y="4366800"/>
              <a:ext cx="1419120" cy="50940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19360" y="4876560"/>
              <a:ext cx="1419120" cy="54612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717560" y="4712760"/>
            <a:ext cx="1419120" cy="1055880"/>
            <a:chOff x="1717560" y="4712760"/>
            <a:chExt cx="1419120" cy="1055880"/>
          </a:xfrm>
        </p:grpSpPr>
        <p:sp>
          <p:nvSpPr>
            <p:cNvPr id="63" name=""/>
            <p:cNvSpPr/>
            <p:nvPr/>
          </p:nvSpPr>
          <p:spPr>
            <a:xfrm flipV="1">
              <a:off x="1717560" y="4712760"/>
              <a:ext cx="1419120" cy="50940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17560" y="5222520"/>
              <a:ext cx="1419120" cy="54612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849840" y="5580000"/>
            <a:ext cx="7315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49840" y="4352760"/>
            <a:ext cx="2162160" cy="5097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292720" y="5222880"/>
            <a:ext cx="719280" cy="3571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23000" y="5048280"/>
            <a:ext cx="71136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7600" y="4319640"/>
            <a:ext cx="7272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60640" y="3436920"/>
            <a:ext cx="1419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urier New"/>
              </a:rPr>
              <a:t>x ||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6156360"/>
            <a:ext cx="1419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urier New"/>
              </a:rPr>
              <a:t>x &amp;&amp;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51600" y="5935680"/>
            <a:ext cx="1419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urier New"/>
              </a:rPr>
              <a:t>not (x &amp;&amp;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67640" y="3772080"/>
            <a:ext cx="1419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urier New"/>
              </a:rPr>
              <a:t>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81120" y="4021200"/>
            <a:ext cx="304920" cy="36180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942240" y="4287960"/>
            <a:ext cx="304560" cy="68076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654160" y="5541840"/>
            <a:ext cx="652680" cy="59544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246560" y="5765400"/>
            <a:ext cx="326880" cy="52236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１　ブール値：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Boo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=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　と　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/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==), (/=) :: Bool -&gt;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lse =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rue /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Or :: Bool -&gt;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Or = (/=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023840" y="3940200"/>
            <a:ext cx="577800" cy="119160"/>
            <a:chOff x="1023840" y="3940200"/>
            <a:chExt cx="577800" cy="119160"/>
          </a:xfrm>
        </p:grpSpPr>
        <p:sp>
          <p:nvSpPr>
            <p:cNvPr id="82" name=""/>
            <p:cNvSpPr/>
            <p:nvPr/>
          </p:nvSpPr>
          <p:spPr>
            <a:xfrm>
              <a:off x="1023840" y="394020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478520" y="400428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17720" y="5205240"/>
            <a:ext cx="577800" cy="119160"/>
            <a:chOff x="1017720" y="5205240"/>
            <a:chExt cx="577800" cy="119160"/>
          </a:xfrm>
        </p:grpSpPr>
        <p:sp>
          <p:nvSpPr>
            <p:cNvPr id="85" name=""/>
            <p:cNvSpPr/>
            <p:nvPr/>
          </p:nvSpPr>
          <p:spPr>
            <a:xfrm>
              <a:off x="1017720" y="5205240"/>
              <a:ext cx="461880" cy="11916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472400" y="5269320"/>
              <a:ext cx="123120" cy="28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１　ブール値：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Boo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リテラルと定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...: 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リテラル（そのものが値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あり，評価を必要としな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Not :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Not True 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yNot False 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Or True x = no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xOr False x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573880" y="3716280"/>
            <a:ext cx="3195360" cy="2684520"/>
            <a:chOff x="5573880" y="3716280"/>
            <a:chExt cx="3195360" cy="2684520"/>
          </a:xfrm>
        </p:grpSpPr>
        <p:sp>
          <p:nvSpPr>
            <p:cNvPr id="91" name=""/>
            <p:cNvSpPr/>
            <p:nvPr/>
          </p:nvSpPr>
          <p:spPr>
            <a:xfrm>
              <a:off x="5881680" y="4443480"/>
              <a:ext cx="288756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パタン照合</a:t>
              </a:r>
              <a:r>
                <a:rPr b="0" lang="en-US" sz="2800" spc="-1" strike="noStrike">
                  <a:solidFill>
                    <a:srgbClr val="ff3399"/>
                  </a:solidFill>
                  <a:latin typeface="Times New Roman"/>
                </a:rPr>
                <a:t>(Patter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Times New Roman"/>
                </a:rPr>
                <a:t>Matching)</a:t>
              </a:r>
              <a:r>
                <a:rPr b="0" lang="ja-JP" sz="2800" spc="-1" strike="noStrike">
                  <a:solidFill>
                    <a:srgbClr val="ff3399"/>
                  </a:solidFill>
                  <a:latin typeface="Arial"/>
                </a:rPr>
                <a:t>による定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73880" y="3716280"/>
              <a:ext cx="217440" cy="268452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69840 h 2684520"/>
                <a:gd name="textAreaBottom" fmla="*/ 2614680 h 268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２　整数：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In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8800" y="2457360"/>
            <a:ext cx="72133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45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-3452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147483647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xBound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：　最大の整数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=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147483647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f.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4327560"/>
          <a:ext cx="7772400" cy="2558880"/>
        </p:xfrm>
        <a:graphic>
          <a:graphicData uri="http://schemas.openxmlformats.org/drawingml/2006/table">
            <a:tbl>
              <a:tblPr/>
              <a:tblGrid>
                <a:gridCol w="998640"/>
                <a:gridCol w="2509560"/>
                <a:gridCol w="1771920"/>
                <a:gridCol w="2492280"/>
              </a:tblGrid>
              <a:tr h="57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２整数の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d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整数除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２整数の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m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整数剰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冪乗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2^3  8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a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整数絶対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差</a:t>
                      </a: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</a:t>
                      </a:r>
                      <a:r>
                        <a:rPr b="0" lang="ja-JP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中置</a:t>
                      </a: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), </a:t>
                      </a:r>
                      <a:r>
                        <a:rPr b="0" lang="ja-JP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符号反転</a:t>
                      </a: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</a:t>
                      </a:r>
                      <a:r>
                        <a:rPr b="0" lang="ja-JP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前置</a:t>
                      </a: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neg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整数符号反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3346560" y="5769000"/>
            <a:ext cx="339480" cy="69840"/>
            <a:chOff x="3346560" y="5769000"/>
            <a:chExt cx="339480" cy="69840"/>
          </a:xfrm>
        </p:grpSpPr>
        <p:sp>
          <p:nvSpPr>
            <p:cNvPr id="98" name=""/>
            <p:cNvSpPr/>
            <p:nvPr/>
          </p:nvSpPr>
          <p:spPr>
            <a:xfrm>
              <a:off x="3346560" y="5769000"/>
              <a:ext cx="271440" cy="69840"/>
            </a:xfrm>
            <a:custGeom>
              <a:avLst/>
              <a:gdLst/>
              <a:ahLst/>
              <a:rect l="l" t="t" r="r" b="b"/>
              <a:pathLst>
                <a:path w="453" h="56">
                  <a:moveTo>
                    <a:pt x="0" y="30"/>
                  </a:moveTo>
                  <a:cubicBezTo>
                    <a:pt x="36" y="15"/>
                    <a:pt x="73" y="0"/>
                    <a:pt x="111" y="0"/>
                  </a:cubicBezTo>
                  <a:cubicBezTo>
                    <a:pt x="149" y="0"/>
                    <a:pt x="189" y="21"/>
                    <a:pt x="227" y="30"/>
                  </a:cubicBezTo>
                  <a:cubicBezTo>
                    <a:pt x="265" y="39"/>
                    <a:pt x="304" y="56"/>
                    <a:pt x="342" y="56"/>
                  </a:cubicBezTo>
                  <a:cubicBezTo>
                    <a:pt x="380" y="56"/>
                    <a:pt x="416" y="44"/>
                    <a:pt x="453" y="32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613680" y="5806440"/>
              <a:ext cx="72360" cy="14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３．２　整数：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In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関係演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7240" y="2503440"/>
          <a:ext cx="7772400" cy="4114800"/>
        </p:xfrm>
        <a:graphic>
          <a:graphicData uri="http://schemas.openxmlformats.org/drawingml/2006/table">
            <a:tbl>
              <a:tblPr/>
              <a:tblGrid>
                <a:gridCol w="1722600"/>
                <a:gridCol w="6049800"/>
              </a:tblGrid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より大き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より大きいか等し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=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等し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/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等しくな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より小さいか等し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66"/>
                          </a:solidFill>
                          <a:latin typeface="Courier New"/>
                        </a:rPr>
                        <a:t>より小さ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金子敬一</cp:lastModifiedBy>
  <dcterms:modified xsi:type="dcterms:W3CDTF">2009-05-11T11:39:55Z</dcterms:modified>
  <cp:revision>104</cp:revision>
  <dc:subject/>
  <dc:title>PowerPoint Presentation</dc:title>
</cp:coreProperties>
</file>